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6305-55CE-4694-BA41-2E0D23903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4ED0-3726-4125-8D67-BA2F1CEA0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B994-F4F2-4FFE-9CDB-52D6C732B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5ED5-F7B8-4E84-9E0B-1ACBB966E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B90EC-ABF6-45D7-903A-38DAE277B0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B2667-28D2-47F8-B621-EF02DE44A9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B9F10-84DB-4143-9F43-8D5CD241E0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30500-0DF5-463A-9440-39D7223C69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0FB01-0EDA-47FB-8A73-2A04E390CC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5C7F1-5B18-455F-ABB0-F4C4F62165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C6AF8-14CE-4E26-AB79-DAA9D577A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3B56-C05A-41EA-B7A5-AD63A02C8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32476-B81D-4ADE-A59A-E20D522B3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76AF7-F018-42F7-BFC8-093D012FF9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C5691-DCCB-45C5-8624-93FAC43513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52465-D9BA-40EA-BD2A-F9C4422D6B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EDD8F-49FA-461B-94CF-CF77CCC98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96A8-D1CC-459D-9A26-1E7DCB7C7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DBB6-AA7D-4D7A-9218-22030EEF6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758D-117B-47B5-9135-A73F83010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AB5A-B26F-4B66-96EC-1390F947F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2297-1D72-404C-9A64-63A816E6E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89E4-144D-45AA-96AF-C2479103A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32A4-D6E0-495B-A3C8-7714655B9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38BE7A0-7AEC-41E1-AF66-D20EC6C6F19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6E7BC0E-F53E-4CB5-BBCC-497F9CB00B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52C582B-94E0-4E51-89CF-8D1EFAC3C7C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1DF3F3F-2274-4749-8F1D-6C736083516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andling Collinear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regression (Tibshirani, 1996): minimised sum of regression coefficients so that sum tend to and reach zer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 regression (Hoerl and Kennard, 1970) minimises the squares of the regression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astic net regression (Zou and Hastie, 2005) is a hybrid of LASSO ans Ridg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net in R parameter alpha=1 (LASSO), alpha=0 (Ridge) otherwise Elastic n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indi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ssess regression models using fit indices such 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Sum (observed – predicted)^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E = Sum Abs(observed – predic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PE = Sum( [observed – predicted]/predicted) * 1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-squared = 1 - MSE / Total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Kovac et al (2024)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, LASSO, and Elastic Net regression gave very similar model fits on a linear regression of emotional competency (EC), Distress tolerance, cognitive flexibility, alexithymia and childhood trauma (TRAU) to predict internal sha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42920" y="3314880"/>
          <a:ext cx="6481800" cy="2989080"/>
        </p:xfrm>
        <a:graphic>
          <a:graphicData uri="http://schemas.openxmlformats.org/drawingml/2006/table">
            <a:tbl>
              <a:tblPr/>
              <a:tblGrid>
                <a:gridCol w="1838520"/>
                <a:gridCol w="1403280"/>
                <a:gridCol w="1619280"/>
                <a:gridCol w="162072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erf. metric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Ridg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ASSO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lastic Net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S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4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5.8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0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5.37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P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.2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R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3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2.7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6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4-02-14T16:36:22Z</dcterms:modified>
  <cp:revision>323</cp:revision>
  <dc:subject/>
  <dc:title>REGRESSION ANALYSIS</dc:title>
</cp:coreProperties>
</file>